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060F-3EBF-4893-8B2A-42A37CB1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764F-C0FD-459C-A879-E274EBDD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EA9FF-77DA-4B3E-9C89-8800C883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5CAA-1782-4026-95F2-B1D48043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1BDA-3E41-40BB-AEDD-5FC30F83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FB79-119C-4836-8FCE-82F4BE45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752D-AB27-4F28-B535-C0361DF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C51B-7A7F-4B77-9FD7-F63BA8FB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752B-4BAC-4CAF-A8CF-886C86A4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0E84-582E-4894-BDFA-FE43FEF5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446B-CAEB-43CE-9FBF-13EB2BFB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F934-3CEB-4668-B25E-E43CDA15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6421-8E99-4041-B539-1C557656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ADA3-0B64-4284-A0E8-914903C0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9DFB-9748-4CE9-B36D-6E77B5D4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F5B3-F508-4D18-8CEC-B0A87AA2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FB2A-732C-46E6-A225-882E4757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0315-A31D-4C4F-95E3-611843E0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2DDF-0B73-4710-9639-12D14E37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81BD-4BD4-49C7-9E1B-238AE39A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3B70-154F-460D-A4B8-58A4BB3A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0CA1-D4B6-43D5-94BB-13738053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E0E0-C790-4F79-93C5-E5859127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F095-28BE-41C4-8506-AC26C82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7E2C-4376-440F-883E-35266ACD1BF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64C2-BB54-4B04-839F-3272654CAA0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9152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80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ърцето с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ебе аз ще д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мой Спасителю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Мен го дай!" 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молиш ме Ти с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ли Учителю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скъпа кръв го Ти изкуп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ази го да не се изгуб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земи го Ти, о, Госпо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08000" y="1183680"/>
            <a:ext cx="925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ърцето м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' камък твърдо б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грешен път ход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нес вече не - то мрази грехове, откак се възро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здиша то: „О, мойто бреме греховно кой от мен ще снеме?" Сърцето ми се кае дне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то м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пасение дири в Теб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мой преблаги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оже, Ти Си на душа ми хля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анна всеки ч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ъртта, която Ти понес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утеха, радост ми донес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 ми вярва само в Теб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1836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то ми, Дух Божи, очисти съвсем и обно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Твой свят хр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 Ти го осве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добро го утвърд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х, все за Бога да копне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любов и страх да се надее! Сърцето ми Ти обнов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3-23T18:29:31Z</dcterms:modified>
  <cp:revision>72</cp:revision>
  <dc:subject/>
  <dc:title>Slide 1</dc:title>
</cp:coreProperties>
</file>